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83A-3083-4602-A6A1-651EA5A1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ED3-FBDC-4458-9E94-42119A5C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696-8818-46A9-B81F-3A806626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361-FB2C-4CFD-A4E6-A30ED8E4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5DE8-BC9F-4439-B1C2-70611720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6C1-F254-47B9-BE64-ECB4F176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1CA2-71E2-4049-B3DD-3099342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4932-1EDC-4ACB-B4B3-A8835167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C34E-FC01-43C5-BC2B-551FC39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4767-FDC4-4889-87EB-BD4D1E32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E15-FB4B-4BE1-8DC8-97AD4BF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884-B5DA-48A7-A9EE-16D97C02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C662-914C-40CC-A454-D817E33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93C6-2A29-4ED1-9FB8-6995A4A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7951-CD97-4705-9518-8D4B7F8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7CD-4489-451A-BAD5-ADC21D32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CA87-1A95-4341-8C00-7C8D48D5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408-6749-4A97-9D75-0FFA8A9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1F7-6512-4FB0-8F1F-49F3DBCE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B2B-5F04-46EE-AC15-D5027E9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957-5BD4-453D-A762-AC2D510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BDC-2B8E-4009-96AB-DD08A48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CFC-4980-4653-9D49-4B2E25B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0E5-76C7-4949-8FAF-0F246DE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2DA-B7DE-4F36-AB79-451C86F3AD2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04E3-CCC8-4F24-A955-975CE52321F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282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Καλώς ορίσατε στο πρόγραμμα που καθορίζει το ποσό του Δώρου Χριστουγέννων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.</a:t>
            </a:r>
            <a:br>
              <a:rPr sz="2400"/>
            </a:br>
            <a:br>
              <a:rPr sz="1400"/>
            </a:br>
            <a:r>
              <a:rPr b="1" lang="el-GR" sz="2400" spc="-1" strike="noStrike">
                <a:solidFill>
                  <a:srgbClr val="ffffff"/>
                </a:solidFill>
                <a:latin typeface="Arial Black"/>
              </a:rPr>
              <a:t>Παρακαλώ απαντήστε στην παρακάτω ερώτηση:</a:t>
            </a:r>
            <a:br>
              <a:rPr sz="2400"/>
            </a:br>
            <a:br>
              <a:rPr sz="1800"/>
            </a:br>
            <a:r>
              <a:rPr b="1" lang="el-GR" sz="3200" spc="-1" strike="noStrike">
                <a:solidFill>
                  <a:srgbClr val="ff0000"/>
                </a:solidFill>
                <a:latin typeface="Arial Black"/>
              </a:rPr>
              <a:t>Θα θέλατε Δώρο Χριστουγέννων;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059280" y="5084640"/>
            <a:ext cx="2590560" cy="914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Επόμεν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b7"/>
                </a:solidFill>
                <a:latin typeface="Arial Black"/>
              </a:rPr>
              <a:t>Θέλετε Δώρο Χριστουγέννων</a:t>
            </a:r>
            <a:r>
              <a:rPr b="1" lang="sv-SE" sz="2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Όχ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Να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608184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Επιλέξτε την επιθυμητή απάντηση</a:t>
            </a:r>
            <a:r>
              <a:rPr b="0" lang="sv-S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904760"/>
            <a:ext cx="8007120" cy="41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l-GR" sz="2400" spc="-1" strike="noStrike">
                <a:solidFill>
                  <a:srgbClr val="ffffb7"/>
                </a:solidFill>
                <a:latin typeface="Arial Black"/>
              </a:rPr>
              <a:t>Θέλετε Δώρο Χριστουγέννων</a:t>
            </a:r>
            <a:r>
              <a:rPr b="1" lang="sv-SE" sz="2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Όχ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Ν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6480" y="6095880"/>
            <a:ext cx="30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Επιλέξτε την επιθυμητή απάντηση</a:t>
            </a:r>
            <a:r>
              <a:rPr b="0" lang="sv-S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7800" y="190476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l-GR" sz="2400" spc="-1" strike="noStrike">
                <a:solidFill>
                  <a:srgbClr val="ffffb7"/>
                </a:solidFill>
                <a:latin typeface="Arial Black"/>
              </a:rPr>
              <a:t>Θέλετε Δώρο Χριστουγέννων</a:t>
            </a:r>
            <a:r>
              <a:rPr b="1" lang="sv-SE" sz="2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Όχ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Times New Roman"/>
              </a:rPr>
              <a:t>Ν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6120" y="5985000"/>
            <a:ext cx="305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Επιλέξτε την επιθυμητή απάντηση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4360" y="1904760"/>
            <a:ext cx="800712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08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a00"/>
                </a:solidFill>
                <a:latin typeface="Tahoma"/>
              </a:rPr>
              <a:t>Τέλεια!!!</a:t>
            </a:r>
            <a:br>
              <a:rPr sz="2800"/>
            </a:br>
            <a:br>
              <a:rPr sz="900"/>
            </a:br>
            <a:r>
              <a:rPr b="1" lang="el-GR" sz="3200" spc="-1" strike="noStrike">
                <a:solidFill>
                  <a:srgbClr val="fffa00"/>
                </a:solidFill>
                <a:latin typeface="Tahoma"/>
              </a:rPr>
              <a:t>Παρακαλούμε να επιστρέψετε στην δουλειά σα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49400" y="3860640"/>
            <a:ext cx="5143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χαριστούμ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εκτίμη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ΩΡΓΟΣ ΑΛΟΓΟΣΚΟΥΦ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ποστο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λή</a:t>
            </a:r>
            <a:r>
              <a:rPr b="0" lang="sv-SE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0440" y="523548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Κλικ στο κουμπί για να γίνει αποστολή της απάντηση σα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στο Γενικό Λογιστήριο του Κράτου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1d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2090520"/>
            <a:ext cx="806616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b7"/>
                </a:solidFill>
                <a:latin typeface="Arial Black"/>
              </a:rPr>
              <a:t>Ευχαριστούμε για την απάντηση σας και για το ενδιαφέρον που δείξατε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ffffb7"/>
                </a:solidFill>
                <a:latin typeface="Arial Black"/>
              </a:rPr>
              <a:t>Η γνώμη των πολιτών μας είναι πολύ σημαντική για εμάς !!!</a:t>
            </a:r>
            <a:r>
              <a:rPr b="1" lang="sv-SE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1" lang="el-GR" sz="2800" spc="-1" strike="noStrike">
                <a:solidFill>
                  <a:srgbClr val="ff0000"/>
                </a:solidFill>
                <a:latin typeface="Arial Black"/>
              </a:rPr>
              <a:t>Καλές γιορτές</a:t>
            </a:r>
            <a:r>
              <a:rPr b="1" lang="sv-SE" sz="2800" spc="-1" strike="noStrike">
                <a:solidFill>
                  <a:srgbClr val="ff0000"/>
                </a:solidFill>
                <a:latin typeface="Arial Black"/>
              </a:rPr>
              <a:t>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Έξοδ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1047960" cy="466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7280" y="549360"/>
            <a:ext cx="6480360" cy="1079280"/>
          </a:xfrm>
          <a:prstGeom prst="rect">
            <a:avLst/>
          </a:prstGeom>
          <a:solidFill>
            <a:srgbClr val="04c8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ΥΠΟΥΡΓΕΙΟ ΕΘΝΙΚΗΣ ΟΙΚΟΝΟΜ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3:20:07Z</dcterms:created>
  <dc:creator>Μαρκάκης Ιωάννης</dc:creator>
  <dc:description/>
  <dc:language>en-US</dc:language>
  <cp:lastModifiedBy>Βασίλης Φουρτούνης</cp:lastModifiedBy>
  <dcterms:modified xsi:type="dcterms:W3CDTF">2006-11-06T21:20:38Z</dcterms:modified>
  <cp:revision>12</cp:revision>
  <dc:subject/>
  <dc:title>Καλώς ορίσατε στο πρόγραμμα που καθορίζει το Δώρο Χριστουγέννων Παρακαλώ απαντήστε στην παρακάτω ερώτηση Θα θέλατε Δώρο Χριστουγέννων;</dc:title>
</cp:coreProperties>
</file>